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947-6298-4DB1-ADCE-CBF51EB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753-6541-4766-9473-EA2CA3B8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11-8023-4218-894D-1EFC1327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AEE-4712-4B2C-82DB-23B378F4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671-9057-4A15-95FC-C98B0202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D21E-6BD1-4801-A16A-2155A59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050-F766-433D-AE0F-887C0108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4D8-5002-498C-AA72-BE5035D1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44A9-C6AC-481A-B7C6-10B6402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9BF-3549-47F9-877D-70B141AF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6E83-47E6-42B3-9CD8-5744CCF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EDE-E619-4BE9-9546-425B848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E077-9AF2-4C71-AAF9-1AF54A3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DEE-7DBC-49A2-9EB9-F2D973E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18FB-150C-4A2E-A976-AF172030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830-AFE0-4D3A-9BB9-2DD2FE33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ACC-74A0-4CB9-9BA6-C0F2160B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98B2-D81B-481B-ACB1-876D7278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D0BF-2020-4B2A-985E-FF79741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ADF6-C31F-44EE-B8B3-EF0DF10B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D17E-8E87-4588-A4F2-369D5B58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EED7-3DCB-4D62-B7AB-8341950D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445-6F44-446F-A93D-AA90BF3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32D9-49B5-40AE-AFA5-1ABEC89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266A-8EB2-4708-B0CB-B8DBA8A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B5CB-A05F-45E6-8858-6B6EB87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3D95-F20F-46CF-ADB0-124F532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8695-520B-4DBB-A4B0-3DB9452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EB27-F7B2-4FD8-BD09-EF3F332F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0465-8B41-4509-9EC3-A4A52C77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725F-736B-4AA7-8639-6150D371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1D52-31CF-4DAB-946E-7EC32BE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FE0D-8071-4A8D-8C66-84271B5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C0B-84BA-458D-950D-7A245F45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0738-108F-4CEB-A385-BF89C939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4245-B7D7-4C5F-A65B-727F53D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A399-E499-4E25-AD81-4343553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88D2-2C28-4CC6-BD24-C39D685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E63F-8324-4A83-8622-03339E3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892E-9393-4A4C-83F7-5B6ABB9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1DCF-A61A-4DC9-8CD4-5DF87A4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E142-AA3E-4371-B72B-0DB3B063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7B63-9558-4202-B6CA-80EEA9A7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D6A-D9E7-4FD0-8FFA-B4A9837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2CB-F675-4D99-8FFF-E44599B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A20-92A0-4F5B-B3B6-1FF87918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DE5-D7AC-4A8D-B33A-E5A86A8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3C9-4B71-41F1-818D-5E83D17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CF9-2497-499B-8BFC-8122CB0AB9AF}" type="slidenum"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2EBC-3906-43E2-BA70-680B75324B7C}" type="slidenum"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3A1-DEC5-45D7-870D-521BBA7D04BC}" type="slidenum"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5288-F747-4126-8FFD-FD7DE5DE0EE0}" type="slidenum"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oar2newheights.wikispaces.com/Social+Studies" TargetMode="External"/><Relationship Id="rId3" Type="http://schemas.openxmlformats.org/officeDocument/2006/relationships/hyperlink" Target="http://soar2newheights.wikispaces.com/Social+Studies" TargetMode="External"/><Relationship Id="rId4" Type="http://schemas.openxmlformats.org/officeDocument/2006/relationships/hyperlink" Target="http://greetingsfromtheworld.wikispaces.com/" TargetMode="External"/><Relationship Id="rId5" Type="http://schemas.openxmlformats.org/officeDocument/2006/relationships/hyperlink" Target="http://hums3001.unsw.wikispaces.net/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Constantia"/>
              </a:rPr>
              <a:t>THREE EASY STE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6160"/>
            <a:ext cx="8247240" cy="185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ome examp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soar2newheights.wikispaces.com/Social+Studi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greetingsfromtheworld.wikispaces.com/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hums3001.unsw.wikispaces.net/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39680" y="981000"/>
            <a:ext cx="8424720" cy="2341800"/>
          </a:xfrm>
          <a:prstGeom prst="rect">
            <a:avLst/>
          </a:prstGeom>
          <a:ln w="0">
            <a:noFill/>
          </a:ln>
        </p:spPr>
      </p:pic>
      <p:pic>
        <p:nvPicPr>
          <p:cNvPr id="200" name="Diagram 3" descr=""/>
          <p:cNvPicPr/>
          <p:nvPr/>
        </p:nvPicPr>
        <p:blipFill>
          <a:blip r:embed="rId2"/>
          <a:stretch/>
        </p:blipFill>
        <p:spPr>
          <a:xfrm>
            <a:off x="628560" y="3200400"/>
            <a:ext cx="77961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5000" spc="-1" strike="noStrike">
                <a:solidFill>
                  <a:srgbClr val="04617b"/>
                </a:solidFill>
                <a:latin typeface="Calibri"/>
              </a:rPr>
              <a:t>21ST CENTURY LEARN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5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25:03Z</dcterms:created>
  <dc:creator>Mark</dc:creator>
  <dc:description/>
  <dc:language>en-US</dc:language>
  <cp:lastModifiedBy>Mark</cp:lastModifiedBy>
  <dcterms:modified xsi:type="dcterms:W3CDTF">2011-03-26T16:55:00Z</dcterms:modified>
  <cp:revision>18</cp:revision>
  <dc:subject/>
  <dc:title>Creating your class wiki</dc:title>
</cp:coreProperties>
</file>